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C7E9-6CFA-48AF-92E2-70F05AF4E7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DBB-7C52-43D8-98FC-55C6C4F0E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6D3-2989-42B2-9F80-9A5E0239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63D-5855-472C-8ED0-BBF3D40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911-3A8C-4B89-9A6D-0C9F9C4A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F3B-68C0-415C-84F7-1AF37920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E057-2ABD-41D6-B976-8A53BD70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786F-0C60-4FCE-986F-02F5C67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5841-FB5A-4697-8121-FDC2AAF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8439-1901-4F1A-8102-B4F6BC31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C20-59B7-4466-915C-84EB59C7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22B-6B2D-4FCC-8236-F4A10AD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E9E1-BFD6-4593-A1E9-48F404F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9AF-B740-4865-B534-CB13FB5B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87CA-1483-48B7-85F9-3BE4523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19A8-CDBF-4E84-BBB0-EC78232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0CAE-6F04-4E87-8A41-B2336EA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28C2-A80B-43B1-9D9C-5925AB9A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191E-55B1-41E6-B308-D36FE6A8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0BFAC-D581-4E46-B2EB-06000EEC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7F6B2-EEC2-44DF-B2D9-3D844DF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07A13-9EE0-41BA-ACA8-AC07D43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9BC87-4064-4640-80EB-65EB023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FA9CD-232C-4301-A181-F37FD1B1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40A-7458-4553-A7E8-D6602FC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9D193-9CED-46FE-BEF3-FF14A0C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106D2-D901-4535-A1E2-63619B4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D722B-8983-4FE9-80D7-8F4AD26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573D7-2BF4-46B0-A398-0708713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A31CF-9450-4DF5-B95D-21C011D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B933-35FC-4F39-92FA-071A4A9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46697-4A40-4E31-8527-C459509C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864B-CCED-46C9-AE79-3680C95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3BFF-1DDB-4687-A062-799A9C5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4396-EB71-4F89-9398-E7140D98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10F-FBC9-4B6F-8F67-B7A586E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84D5-A2A5-4491-A03C-52FA99D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B609-5E98-415D-873B-87A1B1B3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F50E-AD38-4D53-8D85-00BDEA5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14E2-E7A4-44BB-9BFE-8FB41E9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BDF8-FF05-41C5-A8A6-2B86DC6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70E7-456A-4E60-9D8A-EE70518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1096-476A-4891-B9D8-74A42E05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59FC-37FD-47C2-A046-C71D1020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9850-506A-492E-B2CE-7C80DD9F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538EF-E15F-4101-9BC8-49AAC677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1CB-C02B-48E7-A66C-7472315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52563-4F30-477F-923F-E18A498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9FD3B-1CF0-4E65-8811-9F4FC5B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468A4-30EE-47E4-A0A9-C8953695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CADD3-6C09-4895-AFA4-DFF30729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9081B-76BD-4971-9323-8D9DCCB3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0B7D2-BFB2-4391-905B-797A836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37A4B-9D31-451F-A6C2-F78EEEB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8CC16-805E-4DBA-8488-523BF23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CD7D4-3F3B-4779-9C98-C97BC69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F35F5-3C2B-4E76-B3CE-0BE35B10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F7A-8E08-4EF1-9FF2-5A021BA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8CE89-D026-4BBE-B8C3-5A5F9DE4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AC32A-CBF1-4529-8AFB-E6FC352B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D0331-2507-405A-88B7-11F8186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8B814-FD55-4FAD-9404-506540C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70B07-C3ED-422E-91E8-813C1B5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DA237-0CDD-441F-B301-A685AAD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6A014-0991-4571-A419-C16CC94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798B8-C2FD-4CB7-B8AA-3CDC309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5BC83-9039-44F5-8207-7B77234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87E1D-6A94-4B25-A368-A001967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F15-1669-4195-ABA1-6796BC8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0D8A9-7B94-46CD-A670-2AA96BC3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4B7C8-E350-4397-983D-76EFDB23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57FC2-6F1B-4E2D-B524-9288A515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EA089-E50E-420E-9DE6-A5391D31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1F5B5-B8BA-409B-97BF-0210694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600DF-75E3-48A7-87DD-187D481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FC67F-91A3-4C2D-9923-016BE4E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2C1FB-38B1-46ED-B3BF-EAA4E7A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7468C-1509-4DC1-96D8-2535A04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B4576-ABFF-4052-8ACC-BF12547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8EB-1D29-46B6-8A5A-FF0FEF0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3CF35-29ED-4FF2-87EB-F5DD506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56BCD-D1AE-4098-9B23-A26E310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7BA9B-03BE-4892-BCF2-59FA26A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427BD-F955-408C-8FD9-D63C6AB8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16B36-6D59-447A-B26E-0FBA0A37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AEF-AFD1-4A9E-ADA6-B327C56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D6C-625A-4334-A78B-7C4A48D0FE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3090-9497-4F4E-8EC9-4C421620E5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F21-937A-4A0B-B3B6-3AB1745760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AE4-D78C-4421-826B-ED2085C8C2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02A-B20D-4FBC-A523-C72834179B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A35-98EC-43D9-8224-B6BD8360EC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81A-B1AD-4194-A9A6-72F81EA4B3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1"/>
          <a:srcRect l="0" t="0" r="44800" b="0"/>
          <a:stretch/>
        </p:blipFill>
        <p:spPr>
          <a:xfrm>
            <a:off x="0" y="-1584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44583"/>
                </a:solidFill>
                <a:latin typeface="Century Schoolbook"/>
              </a:rPr>
              <a:t>ПОЛЬЗА ДОМАШНИХ ЖИВОТНЫХ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455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735120" y="5608800"/>
            <a:ext cx="80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Абрамова Марта Лева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rcRect l="99953" t="0" r="-104282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5599440" y="907920"/>
            <a:ext cx="347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ОВ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250920" y="476280"/>
            <a:ext cx="5111640" cy="383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5796000" y="3716280"/>
            <a:ext cx="3095640" cy="232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517680" y="4672080"/>
            <a:ext cx="508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ШЕР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rcRect l="0" t="0" r="45075" b="0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СВИНЬЯ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pigs"/>
          <p:cNvPicPr/>
          <p:nvPr/>
        </p:nvPicPr>
        <p:blipFill>
          <a:blip r:embed="rId2"/>
          <a:srcRect l="0" t="0" r="4328" b="10968"/>
          <a:stretch/>
        </p:blipFill>
        <p:spPr>
          <a:xfrm>
            <a:off x="592200" y="1341360"/>
            <a:ext cx="7508880" cy="48434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92200" y="6184800"/>
            <a:ext cx="70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– порос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" descr=""/>
          <p:cNvPicPr/>
          <p:nvPr/>
        </p:nvPicPr>
        <p:blipFill>
          <a:blip r:embed="rId1"/>
          <a:srcRect l="0" t="0" r="48555" b="0"/>
          <a:stretch/>
        </p:blipFill>
        <p:spPr>
          <a:xfrm>
            <a:off x="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4824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МЯСО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7" descr="organic_beef"/>
          <p:cNvPicPr/>
          <p:nvPr/>
        </p:nvPicPr>
        <p:blipFill>
          <a:blip r:embed="rId2"/>
          <a:stretch/>
        </p:blipFill>
        <p:spPr>
          <a:xfrm>
            <a:off x="395280" y="1844640"/>
            <a:ext cx="4537080" cy="3017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539640" y="6237360"/>
            <a:ext cx="7859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1" descr="Свинина п/ф окорок"/>
          <p:cNvPicPr/>
          <p:nvPr/>
        </p:nvPicPr>
        <p:blipFill>
          <a:blip r:embed="rId3"/>
          <a:stretch/>
        </p:blipFill>
        <p:spPr>
          <a:xfrm>
            <a:off x="5508720" y="1844640"/>
            <a:ext cx="2971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rcRect l="0" t="0" r="46303" b="0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07"/>
          <p:cNvPicPr/>
          <p:nvPr/>
        </p:nvPicPr>
        <p:blipFill>
          <a:blip r:embed="rId2"/>
          <a:stretch/>
        </p:blipFill>
        <p:spPr>
          <a:xfrm>
            <a:off x="971640" y="2781360"/>
            <a:ext cx="2695320" cy="2028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КАКИЕ ВЫ ЗНАЕТЕ БЛЮДА ИЗ МЯСА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4" descr="chicken_cutlet"/>
          <p:cNvPicPr/>
          <p:nvPr/>
        </p:nvPicPr>
        <p:blipFill>
          <a:blip r:embed="rId3"/>
          <a:stretch/>
        </p:blipFill>
        <p:spPr>
          <a:xfrm>
            <a:off x="5724360" y="1484280"/>
            <a:ext cx="2664000" cy="248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35"/>
          <p:cNvPicPr/>
          <p:nvPr/>
        </p:nvPicPr>
        <p:blipFill>
          <a:blip r:embed="rId4"/>
          <a:stretch/>
        </p:blipFill>
        <p:spPr>
          <a:xfrm>
            <a:off x="2771640" y="162864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pelmeni"/>
          <p:cNvPicPr/>
          <p:nvPr/>
        </p:nvPicPr>
        <p:blipFill>
          <a:blip r:embed="rId5"/>
          <a:stretch/>
        </p:blipFill>
        <p:spPr>
          <a:xfrm>
            <a:off x="5724360" y="429264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"/>
          <p:cNvPicPr/>
          <p:nvPr/>
        </p:nvPicPr>
        <p:blipFill>
          <a:blip r:embed="rId1"/>
          <a:srcRect l="100008" t="0" r="-6803236" b="0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КОЗА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6093000"/>
            <a:ext cx="568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кура козы покрыта пух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250px-14199346_2eb45fef30_b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rcRect l="-1362" t="0" r="100008" b="0"/>
          <a:stretch/>
        </p:blipFill>
        <p:spPr>
          <a:xfrm>
            <a:off x="-125280" y="0"/>
            <a:ext cx="12528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mittens-goat-ornamented"/>
          <p:cNvPicPr/>
          <p:nvPr/>
        </p:nvPicPr>
        <p:blipFill>
          <a:blip r:embed="rId2"/>
          <a:stretch/>
        </p:blipFill>
        <p:spPr>
          <a:xfrm>
            <a:off x="5364000" y="1989000"/>
            <a:ext cx="2476800" cy="2476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l1039f"/>
          <p:cNvPicPr/>
          <p:nvPr/>
        </p:nvPicPr>
        <p:blipFill>
          <a:blip r:embed="rId3"/>
          <a:stretch/>
        </p:blipFill>
        <p:spPr>
          <a:xfrm>
            <a:off x="755640" y="1773360"/>
            <a:ext cx="4048200" cy="39052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0"/>
          <p:cNvSpPr/>
          <p:nvPr/>
        </p:nvSpPr>
        <p:spPr>
          <a:xfrm>
            <a:off x="3357720" y="189000"/>
            <a:ext cx="24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П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"/>
          <p:cNvPicPr/>
          <p:nvPr/>
        </p:nvPicPr>
        <p:blipFill>
          <a:blip r:embed="rId1"/>
          <a:srcRect l="0" t="0" r="99504" b="0"/>
          <a:stretch/>
        </p:blipFill>
        <p:spPr>
          <a:xfrm>
            <a:off x="0" y="0"/>
            <a:ext cx="4608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ensonpastureb"/>
          <p:cNvPicPr/>
          <p:nvPr/>
        </p:nvPicPr>
        <p:blipFill>
          <a:blip r:embed="rId2"/>
          <a:stretch/>
        </p:blipFill>
        <p:spPr>
          <a:xfrm>
            <a:off x="395280" y="1628640"/>
            <a:ext cx="4643280" cy="4969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tick_eggs_0509"/>
          <p:cNvPicPr/>
          <p:nvPr/>
        </p:nvPicPr>
        <p:blipFill>
          <a:blip r:embed="rId3"/>
          <a:stretch/>
        </p:blipFill>
        <p:spPr>
          <a:xfrm>
            <a:off x="6227640" y="1557360"/>
            <a:ext cx="2095560" cy="3181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КУРИЦА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577480" y="5032440"/>
            <a:ext cx="340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ЯЙ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"/>
          <p:cNvPicPr/>
          <p:nvPr/>
        </p:nvPicPr>
        <p:blipFill>
          <a:blip r:embed="rId1"/>
          <a:srcRect l="99189" t="304" r="-99181" b="-294"/>
          <a:stretch/>
        </p:blipFill>
        <p:spPr>
          <a:xfrm>
            <a:off x="0" y="47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ИЗ МЯСА КУР, УТОК, ГУСЕЙ, ИНДЕЕК ГОТОВЯТ САМЫЕ РАЗНЫЕ И ВКУСНЫЕ  БЛЮД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5" descr="chicken"/>
          <p:cNvPicPr/>
          <p:nvPr/>
        </p:nvPicPr>
        <p:blipFill>
          <a:blip r:embed="rId2"/>
          <a:stretch/>
        </p:blipFill>
        <p:spPr>
          <a:xfrm>
            <a:off x="5148360" y="404640"/>
            <a:ext cx="3749400" cy="2940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021-1"/>
          <p:cNvPicPr/>
          <p:nvPr/>
        </p:nvPicPr>
        <p:blipFill>
          <a:blip r:embed="rId3"/>
          <a:stretch/>
        </p:blipFill>
        <p:spPr>
          <a:xfrm>
            <a:off x="482760" y="358920"/>
            <a:ext cx="3960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"/>
          <p:cNvPicPr/>
          <p:nvPr/>
        </p:nvPicPr>
        <p:blipFill>
          <a:blip r:embed="rId1"/>
          <a:srcRect l="-4378" t="0" r="100008" b="0"/>
          <a:stretch/>
        </p:blipFill>
        <p:spPr>
          <a:xfrm>
            <a:off x="-39996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4690_2667-paragraf-photo-text-left-img-dir"/>
          <p:cNvPicPr/>
          <p:nvPr/>
        </p:nvPicPr>
        <p:blipFill>
          <a:blip r:embed="rId2"/>
          <a:stretch/>
        </p:blipFill>
        <p:spPr>
          <a:xfrm>
            <a:off x="5435640" y="2060640"/>
            <a:ext cx="3097080" cy="2477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elpBig"/>
          <p:cNvPicPr/>
          <p:nvPr/>
        </p:nvPicPr>
        <p:blipFill>
          <a:blip r:embed="rId3"/>
          <a:stretch/>
        </p:blipFill>
        <p:spPr>
          <a:xfrm>
            <a:off x="684360" y="1557360"/>
            <a:ext cx="4032000" cy="35510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МОЛОКО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477160" y="0"/>
            <a:ext cx="495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КОРО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7:58:08Z</dcterms:created>
  <dc:creator>1</dc:creator>
  <dc:description/>
  <dc:language>en-US</dc:language>
  <cp:lastModifiedBy>Windows User</cp:lastModifiedBy>
  <dcterms:modified xsi:type="dcterms:W3CDTF">2020-09-29T11:09:12Z</dcterms:modified>
  <cp:revision>29</cp:revision>
  <dc:subject/>
  <dc:title>Слайд 1</dc:title>
</cp:coreProperties>
</file>